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59640"/>
        <c:axId val="71547355"/>
      </c:barChart>
      <c:catAx>
        <c:axId val="43259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7355"/>
        <c:crosses val="autoZero"/>
        <c:auto val="1"/>
        <c:lblAlgn val="ctr"/>
        <c:lblOffset val="100"/>
        <c:noMultiLvlLbl val="0"/>
      </c:catAx>
      <c:valAx>
        <c:axId val="71547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59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C0B-3AE4-4E03-9331-9D7A569C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B78-EA19-4E3B-9C7D-4A2A47FC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D60-DA06-4F76-AC15-1B4C6BCA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946-633A-4612-B920-7C3A9E70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4F0-4DD4-45E5-A5AF-E934376A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13D-2725-42FF-8550-D72E59F9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39B-B635-46A1-B85B-68267D82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32E-5B06-4793-B02D-A2BE3D3D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3CF-C4E1-4556-9757-E058D7ED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555-D11B-4EBC-A484-E5DB67FD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B6C-D60F-4B1C-A17A-3EC45DF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B31-41A7-4175-82D8-CC1525D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2939D-AD0B-43E2-97CD-4BCC982A9D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