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79430"/>
        <c:axId val="13595107"/>
      </c:barChart>
      <c:catAx>
        <c:axId val="91079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95107"/>
        <c:crosses val="autoZero"/>
        <c:auto val="1"/>
        <c:lblAlgn val="ctr"/>
        <c:lblOffset val="100"/>
        <c:noMultiLvlLbl val="0"/>
      </c:catAx>
      <c:valAx>
        <c:axId val="13595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79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46B-40C2-423E-8AC5-C7C4A842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222-787E-44CF-A3B4-62170905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B82-2850-4560-A63F-253BCA6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88A-F548-4A80-92CB-749DFEB9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CA9-2F1A-4D67-AAC2-9795D3C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645-D7AF-4BEB-9B98-AA16D4D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745-EF4F-4598-BF52-7A31DF5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4C7-AE99-4003-8E88-5921882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C67-9655-4B1C-9DC4-908474E8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9DD-6424-44EE-B684-8A17B1B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934-3CE8-4D57-9552-E0B065B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96F-3B4D-4EB9-B317-DFAB7FF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7566-7001-46C0-8BEC-3B846B627A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