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28279"/>
        <c:axId val="73646843"/>
      </c:barChart>
      <c:catAx>
        <c:axId val="28528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6843"/>
        <c:crosses val="autoZero"/>
        <c:auto val="1"/>
        <c:lblAlgn val="ctr"/>
        <c:lblOffset val="100"/>
        <c:noMultiLvlLbl val="0"/>
      </c:catAx>
      <c:valAx>
        <c:axId val="736468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28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89C-EC68-4EBF-96CB-B73CB104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90F-FCCB-4878-BD0A-76857E81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8BE-79AE-4B54-A419-19EB6C92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E1F-4E8F-4BED-B6D6-660E99B5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1AF-0461-4441-A44A-63E1581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394-3020-4C39-86A1-029F7EE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182-C8AC-46CE-89D7-B1D0351B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EBF-0997-4F42-A96F-6FF06E8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CAA-7F19-44F2-B8C5-3853EA4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161-2118-4289-B300-03BF8D0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892-DD39-48C8-8051-F6AEAD8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E41-3F1A-440E-AFF0-7EE773D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3F10E-5A13-4050-9A33-99C8A9D41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