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21907"/>
        <c:axId val="18648473"/>
      </c:barChart>
      <c:catAx>
        <c:axId val="49321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8473"/>
        <c:crosses val="autoZero"/>
        <c:auto val="1"/>
        <c:lblAlgn val="ctr"/>
        <c:lblOffset val="100"/>
        <c:noMultiLvlLbl val="0"/>
      </c:catAx>
      <c:valAx>
        <c:axId val="18648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21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2DA-FBE1-44E8-AFCE-CCD3F70E9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294-8ABE-456B-B292-828F73BF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9C3-F09A-4B6C-ABA9-A17D4D45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DCE-9B33-47B9-8E64-A18B304F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E9C-1D82-48E7-AFCC-C115CD6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4EE-B43C-4E67-8981-E578C4A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920-23E9-4371-B70D-87D2DF81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71D-1BB3-4AFD-940A-8A3EB58E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8D9-FEB7-40AA-A1F0-05789FF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A25-ADFE-4E5B-B0C8-D946951C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33B-93B6-4112-BCDE-00FB815A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B19-A41A-404E-B657-D481FBB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953B6-0561-45FE-B60C-B88C472435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