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81445"/>
        <c:axId val="68841263"/>
      </c:barChart>
      <c:catAx>
        <c:axId val="40781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41263"/>
        <c:crosses val="autoZero"/>
        <c:auto val="1"/>
        <c:lblAlgn val="ctr"/>
        <c:lblOffset val="100"/>
        <c:noMultiLvlLbl val="0"/>
      </c:catAx>
      <c:valAx>
        <c:axId val="68841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1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CCC-1782-4144-B1B1-12583544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3FE-124B-4F35-90C0-1BBDB075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A34-969B-4148-83AD-887C22B1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785-3679-45D4-B42C-45117ECC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67A-1357-4550-BF5B-5E40C160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FE1-21AA-422D-B801-C7DEFBF4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A28-0ACB-4DAA-BF3F-E8AFA890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558-FC90-44C9-A6CB-6864C2EE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C56-829D-47E0-98D6-31FF00DB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927-2B50-4BFF-9530-A3E74E6B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7EA-1546-43D2-90D9-2888AF47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C33-9642-4C31-80C3-F0478C30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8D797-9442-4485-AB25-49EFA2AA8F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