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66808"/>
        <c:axId val="36703571"/>
      </c:barChart>
      <c:catAx>
        <c:axId val="58166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03571"/>
        <c:crosses val="autoZero"/>
        <c:auto val="1"/>
        <c:lblAlgn val="ctr"/>
        <c:lblOffset val="100"/>
        <c:noMultiLvlLbl val="0"/>
      </c:catAx>
      <c:valAx>
        <c:axId val="36703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66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C60-C779-4DA7-B3F3-C1CBB810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258-F64E-46A1-97FB-922BEF50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672-9EE5-4738-B4B9-906163B4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AC6-6507-4EA4-98E3-4975E40B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332-DEE5-47EB-B390-CB25368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E2C-FB34-484D-9454-FF98A180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F7B-BE4C-492C-80DE-D3A2D443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A6E-C8BA-41EB-85D3-F907700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CE8-D092-4906-9C51-D6C95364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B7B-2BF2-4620-A084-4464FCF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7BD-42E4-43B6-827E-5D02CAF8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304-AFAF-4315-823E-BBD5E1E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E6F75-8190-4E95-94EB-4E9125EE81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