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28980"/>
        <c:axId val="90719716"/>
      </c:barChart>
      <c:catAx>
        <c:axId val="43228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19716"/>
        <c:crosses val="autoZero"/>
        <c:auto val="1"/>
        <c:lblAlgn val="ctr"/>
        <c:lblOffset val="100"/>
        <c:noMultiLvlLbl val="0"/>
      </c:catAx>
      <c:valAx>
        <c:axId val="907197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28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CB6-4980-43B5-8049-8D7A3FAF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4B5-EB8D-4176-89A4-0F2B0E06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7321-CE24-4AB1-98AE-9FF2E8AE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0AD-3441-4336-9D2B-AD1888A2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F9ED-84C1-4C78-9E5F-AD770525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9BD5-8EF2-4FDA-A439-40A82696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96A-F817-4C9D-9EBE-2E509D0E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373-0FE2-4ED5-924F-E9F4E260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D669-003D-4C83-AE7A-DE9D17C8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3DC-55ED-4960-AE44-063C10DC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9F9-FA50-4D4E-A8D7-B13576C6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AF26-F73B-43BA-A952-538D484C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7A042-53F3-44D8-8B3D-006FF21E91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