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511730"/>
        <c:axId val="62807607"/>
      </c:barChart>
      <c:catAx>
        <c:axId val="265117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07607"/>
        <c:crosses val="autoZero"/>
        <c:auto val="1"/>
        <c:lblAlgn val="ctr"/>
        <c:lblOffset val="100"/>
        <c:noMultiLvlLbl val="0"/>
      </c:catAx>
      <c:valAx>
        <c:axId val="628076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117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2306-DB47-4ECE-BC74-750E9117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B836-DFEA-48D1-99D9-D35BC53A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30AD-ED2C-4600-AA81-DA94C30A6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A7F8-3607-4594-918C-E58DD0D47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B2C4-792A-4756-B262-7FFBE259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F717-9376-4E46-ADB4-EFA37BCE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FC35-A96E-46C8-9BB6-9AEA70E5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4180-9916-4578-8480-5C269663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CC19-7BD4-4E9A-94B6-C4E3F9B8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4838-C7AC-4BA2-9E79-F7ACA87E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12FD-B420-4910-942C-886DC3F3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3BCE-8FA3-43EE-B083-C7C4B300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A002E-FAA0-402E-80A1-F7E903E97D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