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92994"/>
        <c:axId val="70009147"/>
      </c:barChart>
      <c:catAx>
        <c:axId val="97492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9147"/>
        <c:crosses val="autoZero"/>
        <c:auto val="1"/>
        <c:lblAlgn val="ctr"/>
        <c:lblOffset val="100"/>
        <c:noMultiLvlLbl val="0"/>
      </c:catAx>
      <c:valAx>
        <c:axId val="70009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92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5DD-0DF6-4518-9461-62E0915A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1FF-D19B-4563-89BF-F8640682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764-DF73-4F3B-A821-D1B1D015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81E-0BB5-401B-BCBC-E415357B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F36-B5B2-4E7D-A075-84B8FAD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CA9-DF79-4C74-81A9-86BFB6F1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5E3-0742-4583-AF24-FBE6A50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79C-2F91-4784-8FDE-9FE621B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ED9-E9CB-42CF-9D36-4F73731D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D58-1CD9-4875-906B-7594CC8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BC8-2145-4CE2-9A7A-5D97EC7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952-1E03-4D21-85D6-AA97894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A1DDE-F415-440F-AB2E-085193B42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