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102024"/>
        <c:axId val="25505695"/>
      </c:barChart>
      <c:catAx>
        <c:axId val="741020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05695"/>
        <c:crosses val="autoZero"/>
        <c:auto val="1"/>
        <c:lblAlgn val="ctr"/>
        <c:lblOffset val="100"/>
        <c:noMultiLvlLbl val="0"/>
      </c:catAx>
      <c:valAx>
        <c:axId val="255056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020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02D8-E3A7-489D-9F9E-58DD6466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4487-3EBD-405A-88EB-C2F6D7C9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7719-EA03-45D8-AA4D-D6B3CE456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CA8B-82A8-4D38-91BB-77C57C4F8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C300-FB08-4722-B47E-68A953B7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74C3-5BF0-4D41-8570-43017E54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727A-60DF-4925-B2CD-5577228C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6839-6F4D-4C61-84EC-36741D32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B215-F5F6-4250-B90B-83DE5703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F39B-9B9F-4C63-8B81-AD8A85B4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0857-666D-4EFF-9A08-1DCC1E2B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98FF-D6B2-40BF-AC81-78F55B77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1D97A-47D0-4C43-B835-668339EBCE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