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68654"/>
        <c:axId val="29388330"/>
      </c:barChart>
      <c:catAx>
        <c:axId val="6876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88330"/>
        <c:crosses val="autoZero"/>
        <c:auto val="1"/>
        <c:lblAlgn val="ctr"/>
        <c:lblOffset val="100"/>
        <c:noMultiLvlLbl val="0"/>
      </c:catAx>
      <c:valAx>
        <c:axId val="29388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C06-E227-4FC0-85FE-FE86C6D5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5AB-0CA2-4AB4-8EE6-7766B8A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7B4-5CB4-4F48-A10D-A0D1A993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5B9-765D-4E97-8B1A-E4138D85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D1E-32AC-4392-80B3-7801E4EA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319-97CC-4C71-B32F-1611BB0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2DC-C51E-4C85-8099-7D589421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90D-09CF-4B9D-8381-FFCFE7C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6C8-7969-4D45-BC8F-CEF9F80E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220-F872-4B52-A635-F9FC9405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CEC-5ACF-4F50-933A-31486A7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C24-75DF-481D-BD97-D3BE068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6E5A7-AE8F-4637-A011-D58FAFEB50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