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49586"/>
        <c:axId val="65692544"/>
      </c:barChart>
      <c:catAx>
        <c:axId val="26749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2544"/>
        <c:crosses val="autoZero"/>
        <c:auto val="1"/>
        <c:lblAlgn val="ctr"/>
        <c:lblOffset val="100"/>
        <c:noMultiLvlLbl val="0"/>
      </c:catAx>
      <c:valAx>
        <c:axId val="65692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49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8A8-E9AD-404F-A9D2-4E03ED2A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9BB-0CAA-4E56-93B3-81710DD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DF6-96DA-4329-80E8-422F74AB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A68-0551-4866-9C6D-FCB2D398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F04-5DD0-4D96-9D8F-9C16127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E48-7576-4E39-8E5E-5A166FD5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39E-75EE-4F7D-A05F-0AD11A0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CE3-FE39-4557-ADE6-EE665708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689-E3E7-4DC5-9380-5EECD24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51C-E4F7-45F8-BA5F-BEBF791E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58E-F3E9-4AA1-A1A3-96B1461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16B-84C9-46E3-9AC1-9F8DCFB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8CDA1-8AAC-4A16-8432-5988D48BA3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