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965756"/>
        <c:axId val="13149849"/>
      </c:barChart>
      <c:catAx>
        <c:axId val="289657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149849"/>
        <c:crosses val="autoZero"/>
        <c:auto val="1"/>
        <c:lblAlgn val="ctr"/>
        <c:lblOffset val="100"/>
        <c:noMultiLvlLbl val="0"/>
      </c:catAx>
      <c:valAx>
        <c:axId val="131498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9657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5A1C-5F2A-43D2-9FD6-D8D54D58B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D31D-02D2-4E6B-A7A9-21404ACD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39A9-2076-4F6A-B754-E6B99FED0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0650-200C-44CE-9192-7BA06B355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AC9C-19C7-46EF-B592-10CDB3A0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8150-E419-48B2-B43A-6A582926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E271-0CC1-4190-BB51-FAEFC388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F7C3-6974-4087-BD8C-F28D0B5B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771B-27F3-4A82-B522-74D45B4A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BDA9-B4E2-4037-BF64-2F2F4DFE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34F7-66B1-44E2-8665-1ADA6513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2D66-FE55-40CF-9288-01803060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F5A38-3153-494D-AB6D-64DDFDD0B4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