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2137"/>
        <c:axId val="40032653"/>
      </c:barChart>
      <c:catAx>
        <c:axId val="77432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2653"/>
        <c:crosses val="autoZero"/>
        <c:auto val="1"/>
        <c:lblAlgn val="ctr"/>
        <c:lblOffset val="100"/>
        <c:noMultiLvlLbl val="0"/>
      </c:catAx>
      <c:valAx>
        <c:axId val="40032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2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B1B-E0BB-4349-BDCE-59BBB103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D7-8C9A-433A-9647-6E177EE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AE5-C40C-4F98-904E-93E142EB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F46-D2D8-451D-A76C-4FAA2F39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862-CD50-41BB-A0BA-EB418CE9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144-2D4A-48C4-9EC7-85ACAA0A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EB3-CBFA-4007-BF68-CEE7FE5C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A28-E7C1-4819-9BB6-F84D71D9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D20-A2E4-4705-95D6-F4A3F797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06C5-CB77-4F75-B5F0-354A8EFA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798-41FF-40F8-B0E6-05527311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0F6-80F9-4FC3-8B5D-92938C1C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3461A-22B3-4D33-8DE1-055DC604C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