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65667"/>
        <c:axId val="49634010"/>
      </c:barChart>
      <c:catAx>
        <c:axId val="1116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34010"/>
        <c:crosses val="autoZero"/>
        <c:auto val="1"/>
        <c:lblAlgn val="ctr"/>
        <c:lblOffset val="100"/>
        <c:noMultiLvlLbl val="0"/>
      </c:catAx>
      <c:valAx>
        <c:axId val="49634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BE5-B9D2-4D40-A059-11DB2A8F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CC1-2E53-43DE-AF8C-11989664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36F-6387-49AC-BD2F-B6142AB7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515-D03D-433F-B2AE-81AEFFCE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921-D77D-4E50-9993-2C7A843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84E-3BBC-4640-BDF6-63245AC2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A9E-E670-4F4D-B486-24EB6EB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AD3-612C-4664-9784-1C2B7B1D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1C3-48BB-435F-A6E3-ACAA803D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EA7-C62D-4F1F-93ED-37395E5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AD3-83D2-4694-A733-061166B7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2DF-4B62-452E-8B4A-6B92F23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3F973-A1B5-429D-974F-E5D5B5B98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