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1864"/>
        <c:axId val="78603465"/>
      </c:barChart>
      <c:catAx>
        <c:axId val="2871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03465"/>
        <c:crosses val="autoZero"/>
        <c:auto val="1"/>
        <c:lblAlgn val="ctr"/>
        <c:lblOffset val="100"/>
        <c:noMultiLvlLbl val="0"/>
      </c:catAx>
      <c:valAx>
        <c:axId val="78603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1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8F0-19FE-4C38-8455-AC39CC7A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346-5D3B-42EC-988B-9DEF7176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027-06D9-4219-9ED0-039FD9DA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E70-CE59-4E26-B59E-6140DE42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6DF-EBE1-4ED6-B571-6CE91872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B79-E34F-4DC8-9B39-8357FA96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87D-E1F0-4515-A57B-0C57220B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A6D-050E-40DC-B7FE-29120912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108-388C-477B-B966-4291732A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DBC-82B2-4B1A-87AB-ECBB8992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421-AD8F-4A5A-8729-78C36333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9B5-961F-432F-831E-91431843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50C4A-0F6D-4BA9-A2AE-F0CDE2B7D5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