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24821"/>
        <c:axId val="75164388"/>
      </c:barChart>
      <c:catAx>
        <c:axId val="91324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64388"/>
        <c:crosses val="autoZero"/>
        <c:auto val="1"/>
        <c:lblAlgn val="ctr"/>
        <c:lblOffset val="100"/>
        <c:noMultiLvlLbl val="0"/>
      </c:catAx>
      <c:valAx>
        <c:axId val="75164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24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D41-9D5A-4E22-8043-127CF16E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380-2E7D-40CF-B5F9-2712ED06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946-3C45-4CB5-96EC-90C4B590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0DE-7D9F-4E40-BD68-0F1170F4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D92-817F-4AD1-9D41-49CF260B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219-58B0-43DC-9246-2BB058EB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F0B-019A-4150-9270-7FF84AAE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9E7-3171-4CD7-BCCB-8CF80406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480-9477-4AD7-B874-C6ECF8F2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D86-EE42-4DAF-8FAE-8F6C42ED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128-4247-4FDE-AFB1-33B198D5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3BD-A410-498A-ADDE-BD7F7ADB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BC3A1-F595-41CA-BEB8-91A8DFC8B8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